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675A-8D69-4B91-9E4A-5D66C23AA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5F35-96A1-4262-AFEA-4C286C6C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8627-58D6-496F-8723-0237E7F3D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3599-F456-4016-B68F-9D8D2806C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A68D-5FE8-4BEE-B69C-B10F8F12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CC0B-C06B-4802-A32C-AF0A7FD3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13C3-E427-401A-8852-29640CC8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74F8-E920-4D86-9AD7-16D1D372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65EE-9E5E-4226-BEF5-BECAFC68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6717-A29B-4136-9127-E30D6AA4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CA6A-CE64-4099-989D-FA024669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337E-5492-4D89-8E3C-A2327457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3F5C-39F8-4C9B-9EE2-0DED6E9E9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yo pedi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pid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7621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vosotros encontra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encontr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  <a:ea typeface="Arial"/>
              </a:rPr>
              <a:t>éi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76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Pepe resolve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resuelv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76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en-US" sz="7600" spc="-1" strike="noStrike">
                <a:solidFill>
                  <a:srgbClr val="000000"/>
                </a:solidFill>
                <a:latin typeface="Arial"/>
                <a:ea typeface="Arial"/>
              </a:rPr>
              <a:t>úl conta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cuent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76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nosotras repeti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repitam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76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yo segui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sig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7621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Pamela y yo servi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sirvam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76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  <a:ea typeface="Arial"/>
              </a:rPr>
              <a:t>él reírse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se r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  <a:ea typeface="Arial"/>
              </a:rPr>
              <a:t>í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76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nosotros menti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mintam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76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7600" spc="-1" strike="noStrike">
                <a:solidFill>
                  <a:srgbClr val="000000"/>
                </a:solidFill>
                <a:latin typeface="Arial"/>
                <a:ea typeface="Arial"/>
              </a:rPr>
              <a:t>ú adverti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adviert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762120"/>
            <a:ext cx="84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nosotros divertirse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2590920"/>
            <a:ext cx="8686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nos divirtam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76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ellos cerra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cierren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7621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mi mam</a:t>
            </a:r>
            <a:r>
              <a:rPr b="0" lang="en-US" sz="7600" spc="-1" strike="noStrike">
                <a:solidFill>
                  <a:srgbClr val="000000"/>
                </a:solidFill>
                <a:latin typeface="Arial"/>
                <a:ea typeface="Arial"/>
              </a:rPr>
              <a:t>á y yo volve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volvam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52280" y="762120"/>
            <a:ext cx="92962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Lorena y yo dormirse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590920"/>
            <a:ext cx="8686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nos durmam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76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7600" spc="-1" strike="noStrike">
                <a:solidFill>
                  <a:srgbClr val="000000"/>
                </a:solidFill>
                <a:latin typeface="Arial"/>
                <a:ea typeface="Arial"/>
              </a:rPr>
              <a:t>ú roga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ruegu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3:24:09Z</dcterms:created>
  <dc:creator>jbarber</dc:creator>
  <dc:description/>
  <dc:language>en-US</dc:language>
  <cp:lastModifiedBy>jbarber</cp:lastModifiedBy>
  <dcterms:modified xsi:type="dcterms:W3CDTF">2009-02-11T17:12:51Z</dcterms:modified>
  <cp:revision>4</cp:revision>
  <dc:subject/>
  <dc:title>Slide 1</dc:title>
</cp:coreProperties>
</file>